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A14-61BA-479B-B9A8-53570187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996-C80B-4754-BBEB-4ADC769F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264-CE67-4FCA-9DFA-CA87DF68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D42-C2DD-4847-B96D-FA63C6D1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E654-D036-4F1C-80A4-8515C83D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84BC-C058-436F-998E-5FAFC244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6463-9CD5-4FF0-8305-835FFC98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D56D-C589-4AEC-BFB5-8F534978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17A3-CBD5-4699-A022-361F0D73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1B36-6B6B-474A-96F3-8CF70FD6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6AE2-B433-48B0-B4F0-1DB292A3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A68-1DBC-4191-924A-7A7635D5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21DB-0FB8-49AB-B725-936643D5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0893-BEA6-4128-B029-A0486BF9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487B-5325-414A-A48B-5EE0C0AC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17F4-3935-4652-A0A1-3F4D42CA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4309-3B71-4AFB-ADBD-6FAA98EA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E02-5006-4657-889D-61E2614F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4BC-8F28-4182-9562-965B01C4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786-20C0-4E4A-8E3F-821AEE81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87E-0594-4FEF-A910-546C8256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583-E2CD-43B8-AA06-68E0ECF7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398-5CE7-4E92-9E95-6B96F0A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E2B-987B-4DCE-A1CC-2D586305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49BB-D94C-46A0-BD44-A870593E13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3F77-3AD8-4B99-8036-20B52EB7FA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-Filled Day On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DOL/Ana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ity “t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eativity assign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three-sentence paragraph using only the first half of the alphabet, letters A-L. (You may not use t, m, s, or any other letter that appears past L. This is where the challenge comes i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prepared to sh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liked a lake. He did feel a gale. He hiked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3:45:12Z</dcterms:created>
  <dc:creator>Angie</dc:creator>
  <dc:description/>
  <dc:language>en-US</dc:language>
  <cp:lastModifiedBy>Angie</cp:lastModifiedBy>
  <dcterms:modified xsi:type="dcterms:W3CDTF">2011-08-22T05:12:27Z</dcterms:modified>
  <cp:revision>3</cp:revision>
  <dc:subject/>
  <dc:title>English</dc:title>
</cp:coreProperties>
</file>